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D26-52B8-4B9C-8874-23CE10EF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416-EB89-4F38-8EC7-4E37E958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B99-1B92-43F3-8C4C-326A135C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065-62C2-44FD-A015-1C13B3E3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47C-9B56-4D3A-8C8A-8C29AAE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5F5-D36E-4604-A05A-B0D496B4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A98-26CA-452D-87C9-CC160549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C89-0A9C-4D4C-BE54-A73D856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651-0F75-45E1-A717-F0761977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193-E20C-4D88-97A9-694F43E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F73-127B-4F79-B047-2031907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A63-0BDA-4704-9A27-53DD53C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2518-14DC-42CB-93BC-0A9367EF8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esley Dever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Xavier woods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on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0   point behind a number in a number sentence that separates the whole number from the fractional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Barnyard Buddies Check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ss p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you make before d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alance out different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10:41Z</dcterms:created>
  <dc:creator>WESLEY.DEVER</dc:creator>
  <dc:description/>
  <dc:language>en-US</dc:language>
  <cp:lastModifiedBy>WESLEY.DEVER</cp:lastModifiedBy>
  <dcterms:modified xsi:type="dcterms:W3CDTF">2010-11-23T14:31:02Z</dcterms:modified>
  <cp:revision>2</cp:revision>
  <dc:subject/>
  <dc:title>Wesley Dever  Xavier woods </dc:title>
</cp:coreProperties>
</file>